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3400A-F683-4044-9C4C-C8F69D6B5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D6823-9749-46C3-8482-B10CCAFB5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F9006-2EC0-4CF5-A8DB-D45779252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34789-D226-4180-B4AA-BDBE38E50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31FB8-7BC9-4818-A9F7-7A8041B247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ACB85-23C7-4B2A-B11D-9D776F7514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8AAAC-6566-43CF-AB77-BA808F7977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90A2D-EF6D-49AF-8C31-0B52DC2C43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31E9F-3C7E-4CA3-A4A6-CFBD3A4B1E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C39E8-86FB-4F2F-9562-DA3D81E893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E7643-8AE5-41EF-80B0-ED093666FB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78B5A-EEFA-4DC1-9F4F-59E00836A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501AF-22C8-4938-825E-0ABEE5B9E0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46703-2EA7-4B76-8B0D-B9E9F6FEC8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B4A66-E771-429C-A46D-33673E9AE8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CEC8E-6981-499F-9E15-437C86D8D3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31B03-05A0-4D72-9E6A-1247FF913A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052D-230D-442E-B29D-679642023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6A6A7-DEC1-4AD8-B177-8999104D26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A6CCB-F20E-49C6-9EE5-1FF0A1AAD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6AB40-6F3B-49FA-A783-A930F8DFF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93D04-F299-4935-B723-C55003BBE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BB7B7-6DE7-44DE-A7A3-51B9907E05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02916-71BC-4E98-B261-E9615890E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BFE72CD-5557-4002-9E09-B61AB6AEA59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77BEE6E-9F82-464D-AF58-143B65FECC0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995C8D3-B309-4709-9083-2F52FCD6911B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65F1122-07B7-45CD-8973-34AA93A682E7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2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4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94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4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1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6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4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9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8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5-09-24T15:45:43Z</dcterms:modified>
  <cp:revision>349</cp:revision>
  <dc:subject/>
  <dc:title>Exploratory Data Analysis</dc:title>
</cp:coreProperties>
</file>